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E565-5C86-4D64-8AA4-C1D973F88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22F4-A882-4A46-AD0A-C0E5FA8F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7D82-0E4E-4BE3-A9DD-A4A631466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4609-7263-4718-935C-9A9D4ED3B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3451-5EBE-472A-94F4-9FF9AEC7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878D-D500-48C2-8FE8-C7AF647F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0E18-5E2F-4514-BB20-83079D7B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FB21-CD7E-4791-9DB3-5DB61CA1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4107-3EC7-4A0A-B043-8CB0A9A1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2E34-D91D-4E1C-8CC0-769750E8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44A3-A917-4809-AD09-5FD99E31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B770-D906-4027-AD2C-A8D5543A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20D0-D795-4345-91EE-F7DAE253A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6172200" y="4343400"/>
            <a:ext cx="1905120" cy="17524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-tu une pel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2057400" y="2438280"/>
            <a:ext cx="1905120" cy="17528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erte Rou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5181480" y="2438280"/>
            <a:ext cx="1905120" cy="17528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ng Do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3657600" y="4343400"/>
            <a:ext cx="1905120" cy="175248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Qu’est-ce qui joue à la tél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3581280" y="533520"/>
            <a:ext cx="1981440" cy="17524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’est chaud! C’est chau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6" action="ppaction://hlinksldjump"/>
          </p:cNvPr>
          <p:cNvSpPr/>
          <p:nvPr/>
        </p:nvSpPr>
        <p:spPr>
          <a:xfrm>
            <a:off x="990720" y="4343400"/>
            <a:ext cx="1904760" cy="175248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t’a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640080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14400" y="609480"/>
            <a:ext cx="7391520" cy="5730480"/>
          </a:xfrm>
          <a:prstGeom prst="rect">
            <a:avLst/>
          </a:prstGeom>
          <a:solidFill>
            <a:srgbClr val="ffff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 u="sng">
                <a:solidFill>
                  <a:srgbClr val="000000"/>
                </a:solidFill>
                <a:uFillTx/>
                <a:latin typeface="Century Gothic"/>
              </a:rPr>
              <a:t>C’est chaud! C’est chau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hoses qui peuvent se réchauf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hermomè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F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is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Hu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Ma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Sa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Hale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Fo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Bas de la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Bottes d’h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640080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14400" y="609480"/>
            <a:ext cx="7391520" cy="5303880"/>
          </a:xfrm>
          <a:prstGeom prst="rect">
            <a:avLst/>
          </a:prstGeom>
          <a:solidFill>
            <a:srgbClr val="ff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entury Gothic"/>
              </a:rPr>
              <a:t>Alerte Rou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hoses qui peuvent être rou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Lèv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ulip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F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e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Bon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o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Soul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Arrê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640080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14400" y="609480"/>
            <a:ext cx="7391520" cy="5303880"/>
          </a:xfrm>
          <a:prstGeom prst="rect">
            <a:avLst/>
          </a:prstGeom>
          <a:solidFill>
            <a:srgbClr val="00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entury Gothic"/>
              </a:rPr>
              <a:t>Ding Do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hoses que l’on reçoit par la poste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Fa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ublic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ompte de ta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Lettre d’am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Bonne nouve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ad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arte de fê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a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ourri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hè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640080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14400" y="609480"/>
            <a:ext cx="7391520" cy="5303880"/>
          </a:xfrm>
          <a:prstGeom prst="rect">
            <a:avLst/>
          </a:prstGeom>
          <a:solidFill>
            <a:srgbClr val="ff00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entury Gothic"/>
              </a:rPr>
              <a:t>Je t’a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hoses que les femmes aiment recevoir en cadea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Fl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Bijo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Bai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ompli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lin d’oe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Century Gothic"/>
              </a:rPr>
              <a:t>Parf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Brace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Lingerie F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adeaux envelopp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640080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14400" y="609480"/>
            <a:ext cx="7391520" cy="5303880"/>
          </a:xfrm>
          <a:prstGeom prst="rect">
            <a:avLst/>
          </a:prstGeom>
          <a:solidFill>
            <a:srgbClr val="99cc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entury Gothic"/>
              </a:rPr>
              <a:t>Qu’est-ce qui joue à la télé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hoses que l’on fait en soiré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Nettoy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reparer les lunc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xerc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Mar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Boire de la biè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Century Gothic"/>
              </a:rPr>
              <a:t>Lire des co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Jo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Century Gothic"/>
              </a:rPr>
              <a:t>Faire du lav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640080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14400" y="609480"/>
            <a:ext cx="7391520" cy="5791680"/>
          </a:xfrm>
          <a:prstGeom prst="rect">
            <a:avLst/>
          </a:prstGeom>
          <a:solidFill>
            <a:srgbClr val="ff99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entury Gothic"/>
              </a:rPr>
              <a:t>As-tu une pell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hoses qui ont rapport avec l’action de cre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nter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is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Sous-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e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S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Nei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Igl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Century Gothic"/>
              </a:rPr>
              <a:t>Cimetiè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r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étr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640080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15:02:25Z</dcterms:created>
  <dc:creator>Josée Garneau</dc:creator>
  <dc:description/>
  <cp:keywords/>
  <dc:language>en-US</dc:language>
  <cp:lastModifiedBy>Administrator</cp:lastModifiedBy>
  <dcterms:modified xsi:type="dcterms:W3CDTF">2008-03-26T20:54:05Z</dcterms:modified>
  <cp:revision>49</cp:revision>
  <dc:subject/>
  <dc:title>PowerPoint Presentation</dc:title>
</cp:coreProperties>
</file>